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539-AE9A-4922-A721-93E622F0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0B3-2764-456C-B90D-B0EF0212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9DD-BC1D-4EC5-B3AC-539EBACD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9F2-A4E7-47DA-AF44-9D5EA5F1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6A1-2A28-4942-BD47-BB6BD5CB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623-2CEC-4DA2-8D6A-2F4D2655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0A3-78D1-4723-A192-49D4D8AF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CF6-103D-4547-9777-DB1EB8A6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213-8043-4437-8EE4-29C36C8B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9BD-3748-404C-8B53-DAC46FC4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341-D584-44F8-ADE3-E1A1544B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E20-A91D-4D16-BF74-E1839A4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0C26-6CCC-45D6-8E79-A7973DA2B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this bread and this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do as our Saviour comma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elebrate the redem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has won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34:20Z</dcterms:created>
  <dc:creator>Anon Anon</dc:creator>
  <dc:description/>
  <dc:language>en-US</dc:language>
  <cp:lastModifiedBy>Anon Anon</cp:lastModifiedBy>
  <dcterms:modified xsi:type="dcterms:W3CDTF">2005-08-09T05:10:19Z</dcterms:modified>
  <cp:revision>8</cp:revision>
  <dc:subject/>
  <dc:title>PowerPoint Presentation</dc:title>
</cp:coreProperties>
</file>